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7C1A-3758-4823-AE9B-0A00E0B5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3495-BA13-4123-AF94-FB3558E9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F1D-9AE5-414D-872B-599E5356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C2AD-A7C9-4FCC-B5D4-08E7D25C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C252-6238-4A2E-AD60-3A4535FC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3876-B34B-4FF6-915F-D8123FC9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5E4F-BDCA-4AEB-81B7-F9686CD3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68BE-9B34-4BE3-B4CD-BFC9B119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2780-E0DB-4E99-AE51-911FFD2B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C1F1-BE5E-4708-9CB6-5532A261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77E-A0CD-4664-B1D6-45E048F4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E478-A8DE-43FC-8FEA-9691C3DD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572D-D0DF-4842-815E-D6662F5D9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the Levels 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 organism, population, community, and ecosystem in this photo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61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9:29:47Z</dcterms:created>
  <dc:creator>Sussex County Public Schools</dc:creator>
  <dc:description/>
  <dc:language>en-US</dc:language>
  <cp:lastModifiedBy>Brinkman</cp:lastModifiedBy>
  <dcterms:modified xsi:type="dcterms:W3CDTF">2007-09-06T12:04:26Z</dcterms:modified>
  <cp:revision>2</cp:revision>
  <dc:subject/>
  <dc:title>Recognizing the Levels Warm Up: Identify an organism, population, community, and ecosystem in this photograph.</dc:title>
</cp:coreProperties>
</file>